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728-CC8D-4EB0-BA2B-0BD9C71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0BC-23A2-4E1D-84E7-57A41FE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892-D156-4886-BCA3-9FA9D0B5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598-0FC0-4875-9068-71231A7D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DD0-C5C7-4BB2-93A0-1D1BEE48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39A-5616-4EBA-941B-300A9256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99A-5C36-4437-B02E-B1C4469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CA6-70AA-4FD8-89AB-424278D5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56F-992D-4119-B00C-DF25D85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271-50C8-40FA-B378-C8FAD4C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307-8D90-48CF-8BE2-C089CF1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9B4-8AB3-42C1-8546-58524B6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86E4-D17B-443F-BE94-B053CEB319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00" y="1436760"/>
            <a:ext cx="7019640" cy="5041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aposa 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494240"/>
            <a:ext cx="9070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"/>
              </a:rPr>
              <a:t>Tinha a raposa sua cova bem fechada e estava dentro gemendo porque estava bem enfe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0" y="806400"/>
            <a:ext cx="3810240" cy="33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800360"/>
            <a:ext cx="10152000" cy="602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gou a porta um leão e perguntou-lhe como estava e que abrisse porque a queria lamber, que tinha virtude na língua e ele lambendo-a logo havia de sar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539640"/>
            <a:ext cx="233964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600360"/>
            <a:ext cx="9070920" cy="34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Respondeu a raposa de dentro:</a:t>
            </a:r>
            <a:br>
              <a:rPr sz="3200"/>
            </a:b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-Não posso abrir nem quero creio que tem virtude a tua língua, porém é tão mal vizinhança a dos dentes , que lhe tenho grande medo, e  portanto quero antes sofrer-me com meu 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08800" y="57960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647640"/>
            <a:ext cx="216072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65680" y="1079640"/>
            <a:ext cx="1714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360" y="900000"/>
            <a:ext cx="907092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RAL DA HISTÒRIA: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isa-nos essa raposa que quando nos oferecem, alguma obra boa notemos, as circunstâncias dela, que as vezes são tais, que custam muito mais do que a obra p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5580000"/>
            <a:ext cx="287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58:17Z</dcterms:created>
  <dc:creator/>
  <dc:description/>
  <dc:language>en-US</dc:language>
  <cp:lastModifiedBy/>
  <cp:revision>1</cp:revision>
  <dc:subject/>
  <dc:title/>
</cp:coreProperties>
</file>